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F9C-703E-4390-A90A-BF833A1C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371-F1F7-4232-92CA-A64B7B7D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091-BF47-4C8D-9F0F-EF6CAD59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229-82AA-43A7-81D1-8E0965D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D53-9377-48D9-8A3C-D812774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23B-BA1D-4449-95F8-32834DD6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378-A12F-400C-9768-4CDEB94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309-4D3D-4A6E-9D05-2806519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468-CA4D-41F4-B8C4-7855AE7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8E1-3FE0-43C4-833C-730D6BFE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1AB-1B82-4CFF-B54D-3EA05BCA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33C-E36F-4EE9-8705-5BB3C108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楷体_GB2312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楷体_GB2312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00840" y="6256440"/>
            <a:ext cx="31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楷体_GB2312"/>
              </a:rPr>
              <a:t>曲阜师范大学资产管理处</a:t>
            </a:r>
            <a:endParaRPr b="1" lang="en-US" sz="20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楷体_GB2312"/>
              </a:endParaRPr>
            </a:p>
          </p:txBody>
        </p:sp>
        <p:sp>
          <p:nvSpPr>
            <p:cNvPr id="44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楷体_GB2312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87E-2100-4DB1-8B35-B46A48653F82}" type="slidenum">
              <a:rPr b="0" lang="en-US" sz="1400" spc="-1" strike="noStrike">
                <a:solidFill>
                  <a:srgbClr val="ffcc66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ffcc66"/>
                </a:solidFill>
                <a:latin typeface="Times New Roman"/>
                <a:ea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1700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</a:rPr>
              <a:t>曲阜师范大学办公设备及家具配备申报流程</a:t>
            </a:r>
            <a:endParaRPr b="1" lang="en-US" sz="54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789200"/>
            <a:ext cx="887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感谢您对资产管理工作的支持！</a:t>
            </a:r>
            <a:endParaRPr b="1" lang="en-US" sz="48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86064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</a:rPr>
              <a:t>谢谢</a:t>
            </a:r>
            <a:r>
              <a:rPr b="1" lang="zh-CN" sz="8000" spc="-1" strike="noStrike">
                <a:solidFill>
                  <a:srgbClr val="ffff00"/>
                </a:solidFill>
                <a:latin typeface="楷体_GB2312"/>
              </a:rPr>
              <a:t>！</a:t>
            </a:r>
            <a:endParaRPr b="1" lang="en-US" sz="80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480" y="132084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一、申报原则</a:t>
            </a:r>
            <a:endParaRPr b="1" lang="en-US" sz="48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88" name=""/>
          <p:cNvSpPr/>
          <p:nvPr/>
        </p:nvSpPr>
        <p:spPr>
          <a:xfrm>
            <a:off x="984240" y="2386080"/>
            <a:ext cx="6624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二、申报流程</a:t>
            </a:r>
            <a:endParaRPr b="1" lang="en-US" sz="4800" spc="-1" strike="noStrike">
              <a:solidFill>
                <a:srgbClr val="ffff00"/>
              </a:solidFill>
              <a:latin typeface="楷体_GB2312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三、注意事项</a:t>
            </a:r>
            <a:endParaRPr b="1" lang="en-US" sz="4800" spc="-1" strike="noStrike">
              <a:solidFill>
                <a:srgbClr val="ffff00"/>
              </a:solidFill>
              <a:latin typeface="楷体_GB2312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楷体_GB2312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一、申报原则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1040" y="2035080"/>
            <a:ext cx="8562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一）遵循节能环保、经济适用兼顾美观原则不得盲目求新和追求高档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二）申报单位应盘活存量资产，做到物尽其用，慎重申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二、申报流程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做好预算。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申报单位认真清查本单位的固定资产，做到责任到人。对照账务信息和工作实际，对拟配备的办公设备及家具的需求做出科学分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5360" y="1052640"/>
            <a:ext cx="7920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认真填表。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资产管理员填写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曲阜师范大学办公设备及家具购置申请表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，单位负责人签字盖章后交至资产处办公设备管理科（科技楼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202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），日照校区交至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实验楼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226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审核论证。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资产处依据“高校固定资产管理系统”内的账务信息，对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曲阜师范大学办公设备及家具购置申请表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的内容进行真实性、可行性论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集中采购。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符合配备条件的，资产处采购（招标）中心严格按照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曲阜师范大学公共采购管理办法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校字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[2007]152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号）的相关规定采购相应固定资产，进行配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五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新旧置换。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新设备、家具到位后申报单位将申请人名下的同类资产交回，并在管理系统内办理使用单位变动，变到资产处“调拨资产”数据库下。（即从账上调出去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10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三、注意事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做好资产清查。各单位应认真清查本单位资产，做到帐卡物一致，责任到人。未完成资产清查的单位，原则上不予配备新办公设备、家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严禁“先斩后奏”。如有配备需求，请提早申请，按照程序申报，否则将不予录固定资产、报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请认真阅读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曲阜师范大学办公设备及家具配备管理规定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3a8"/>
                </a:solidFill>
                <a:latin typeface="Times New Roman"/>
              </a:rPr>
              <a:t>校字</a:t>
            </a:r>
            <a:r>
              <a:rPr b="1" lang="en-US" sz="2800" spc="-1" strike="noStrike">
                <a:solidFill>
                  <a:srgbClr val="ff93a8"/>
                </a:solidFill>
                <a:latin typeface="Times New Roman"/>
              </a:rPr>
              <a:t>[2013]63</a:t>
            </a:r>
            <a:r>
              <a:rPr b="1" lang="zh-CN" sz="2800" spc="-1" strike="noStrike">
                <a:solidFill>
                  <a:srgbClr val="ff93a8"/>
                </a:solidFill>
                <a:latin typeface="Times New Roman"/>
              </a:rPr>
              <a:t>号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），具体事宜以文件为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08:37:45Z</dcterms:created>
  <dc:creator>dev3</dc:creator>
  <dc:description/>
  <dc:language>en-US</dc:language>
  <cp:lastModifiedBy>zg</cp:lastModifiedBy>
  <dcterms:modified xsi:type="dcterms:W3CDTF">2013-06-27T01:56:10Z</dcterms:modified>
  <cp:revision>862</cp:revision>
  <dc:subject/>
  <dc:title>PowerPoint 演示文稿</dc:title>
</cp:coreProperties>
</file>